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39593-5D83-4A76-9E6A-0B5AE2C4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210F7-6F5F-4C29-85AB-FB1DDAA3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1E152-1A6D-43BA-8092-B4A1AE5F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AC5BD-275E-4398-A967-5D3406D4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0749C-6B7E-451A-B637-EBE83504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DF12F-64F5-4CF8-81A1-8C207674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30682-F6E5-414A-A7D8-0B2C833F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77C7E-4F68-4448-AE06-E678AE9B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33DED-4505-4FE2-9BAE-04BE36AF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1420B-E62E-4D23-ACC2-E6B503AB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93AC1-EF21-4504-86D4-D0F60685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73938-00C8-45CB-ABCA-A360867B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AC44C-2BCD-4181-9D0A-0DD8A0A4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8C0E3-D2A9-42DB-B0B3-29C8C03E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D06F1-74BE-4AB0-B92F-E59B839D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65FEB-12A1-450F-9DA6-9B72B248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DB347-C076-4275-B6AD-54EA8D3B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0D714-3A07-4179-A44C-DE47E7CC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D861D-A2EB-46A3-8B76-9E4F0D06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AF6B0-F6B6-484F-9AC2-3E949E38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90958-5ADE-4D21-9822-267A89A7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B4D09-0FEB-445D-A43D-49880F1B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B620F-78E4-41B1-97EF-09C2BA52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8F92E-7C57-40EA-8D3F-44340731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8E760-144F-4827-8A79-6EC043A1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5FB2C-D4F2-42F4-ABFF-96DF3D30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84913-FBE8-46D0-B3AE-E46CAD4E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D6BA6-B2C6-4216-82F7-556A3E80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B2658-1660-444D-88BD-28ECED09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33940-615D-4D20-BEFB-3F288B7A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61B-A08B-4910-B449-3D6884F8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D0A4B-99FF-4187-BD2E-9B643557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AEAB9-4469-4C7A-ACBC-9C2D62F7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09E42-9ABB-44BD-ACEC-916152CB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6078A-C261-4F77-B35E-1DAC74EC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D4518-A427-4973-8507-7A0AF2A6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EA187-A60F-49E8-A224-2FBF5B21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A4198-DB93-4D3F-B21B-EF44D733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16B48-4FF2-4039-95BF-1DEDE241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526AF-0424-4BEA-8F7F-B10162EB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8F929-2E81-462F-9360-4D83DD06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DA3-28BB-4E25-8999-26BA1CF2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A77DF-27F8-421E-9AF7-8DF831E8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A1FEB-CE8C-4B24-8853-0DA7F892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03395-5FCB-45F6-BCCC-41FC99CF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80E3C-4D4C-4903-87C5-85E969CB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3912E-432B-4AE5-90F3-E791F6A6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F23-5292-4944-8B54-BFF99B54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403-68EE-4174-AA8C-D9017F1C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7133-9713-4BB2-A8B4-DC399EE9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6B5-4BA6-4619-9ED2-2576F9CC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297-9D98-4A18-84C4-7BB475E5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D0D-DA01-4EB4-BBFD-1653F16C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5B7-5FC3-4878-B502-9FE810B6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49C-AD48-48F7-8E97-82F82D76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609-06E8-4F5C-92DD-A8E365D2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CC2-4355-4580-898E-2849013F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7645-595B-40FE-A271-5E4C28C5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91C1-3E7A-4732-B2FA-90A70E6B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2FF8-8BFE-44C8-A0E1-242CD7C3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8600-117E-4FD5-BCA3-59E040BC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5CC2-BD4B-4294-9B25-75D3DB3F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7AD1-B288-4680-8280-F7F59DEE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E9C1-3B59-4D56-A616-EF036BE2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B5A5-470A-465B-B706-1B55B0AD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ADAD-E992-4994-8335-21FB27CB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52D0-FA2B-43C8-B0E6-19B31CCB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FAD7-6E0D-44EA-B29C-499D0288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0621-12EE-4EA1-918C-28C5B7EF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5ECBC-7D28-440C-A680-723CBB1E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9FC65-01DC-45C9-A5CC-2D4A461C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999E9-B0D5-41C2-9830-8E491F3D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9CB5B-FBEB-4CEF-81CB-49970ABD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800D6-B99E-486B-B581-81FEC1BC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92273-23DD-4B51-8AFE-07643099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7A3F-46F5-43AE-A629-9B7A7235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6AF3B-5686-4DCA-A581-ED1FDF59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CD00B-C191-4A68-B1D1-DD91A452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317C7-B164-4BAD-8B24-A6DC7808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CB1D-3620-4375-9552-73E8FB45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BF23D-67B5-452B-8361-1F1644AC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CC9F2-A710-4091-8D61-763E0108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DE32C-2311-4835-AA54-2BCCECE1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CB9D2-208B-4E3F-A1C2-7F481CC2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34E86-EDCF-471C-9B25-C454DD90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CA6A4-32EC-425D-AC77-0A38EE80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48076-D727-4DA9-A4CC-9E67ABA3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F8AF1-11DD-4E3C-86F8-197E4E03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0F1B9-27B0-4E73-820B-89AAA81F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5D6BA-781D-4BED-BBD3-9AB1C03D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4EC2E-8735-4EF0-A70D-1DF9A15B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FDA78-0359-41C3-B808-71D9CE4E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DA716-EDA4-426A-B89D-893DE862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3015B-0D17-44B6-B104-D6E9C8F0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710B9-1119-4B2E-8B13-8DC4D716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D94A6-32EE-4159-92D9-76F8EC99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6D1E0-A51D-42E3-A2E2-3D6C2F73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404AD-CF59-436A-9E08-55D6F3C1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7A50E-F82F-409B-B803-28CF2B96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E734F-6840-4CF8-AFDA-3A25E874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6CF5C-79C1-4967-9648-5BECFEB0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0CB40-92D1-4948-9AE6-B51E232B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4CD33-C39F-421D-8253-6FDC89CD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F00E0-0D90-4716-B101-6C8A7C63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E392C-9332-4652-8FB9-A5A59395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E6A84-6437-4D5E-A296-16A78E82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D49D3-63D9-4185-BE4C-BF799980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D5153-569B-46F8-B2CB-6BCB5974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321D5-234E-4E07-9D40-5B1D3E17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58A09-959F-4E8F-AFBC-C3D9AFF6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1AAC1-E890-4F85-960A-F6308927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78215-207D-4C79-AF69-09DC44E8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6A03C-33C6-4A00-A832-690148A6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A886E-5A84-49EE-A3A0-E15CEE8C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7D6DF-8F4E-4F5B-8717-6C50BDF1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B56B7-DEA8-42E8-9725-BF929A48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1ECE2-6FA5-4264-BF8D-B75F363A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2DAAB-3501-4DCF-BE3E-309DCA65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A0165-B269-4D97-BA20-BE8C866F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33D9C-B496-49FC-BFBF-2A496A70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748AD-8CFF-48FE-827B-D36BFF11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D1C0E-C7E4-4892-92C5-2D08B922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0F459-224A-4924-A8DE-0E8D24D8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AB6FC-7CD6-482B-BCFB-683DCDED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25FE4-118F-4C0F-98EF-318858AB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B6DCF-09E5-4603-8D6E-C8DD98B6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A0E54-C085-422A-8D54-81BBAF3C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7A3ED-0E64-4D91-B037-F0ADAA9B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867FF-5937-4392-9811-CEAB6FC9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8B730-EBA2-49C2-9102-3E22703D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06D15-5DD8-484A-8E1E-E6948E1A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6FFA4-6D17-4E0C-AD1D-0FB6DFF7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4665-4992-4EF6-9238-18ECB7C9631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FF87-D2C1-4ADB-9232-540C6FB7B1B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B7AE-2112-4CD2-BAFD-51FD7272EAB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C107-B1DF-4D1A-B474-323F1DCA94D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8441-4C4D-4687-9F58-86BC4EFBA10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050A-7070-48EA-BF92-79C53075CDD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799D-DC35-43ED-AC38-0B04DAE94B8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5965-DE27-4CD8-9B10-BF82C2E8876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BA8A-32F7-4B3C-8351-7FAB66C53F2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CDBF-2CBD-4D79-9F28-A99ADDD109D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6D16-286C-4482-B5E8-E4F840FD4F8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8585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7933c"/>
                </a:solidFill>
                <a:latin typeface="Eras Demi ITC"/>
              </a:rPr>
              <a:t>I</a:t>
            </a: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DENTI</a:t>
            </a:r>
            <a:r>
              <a:rPr b="1" lang="es-ES_tradnl" sz="2800" spc="-1" strike="noStrike">
                <a:solidFill>
                  <a:srgbClr val="1f497d"/>
                </a:solidFill>
                <a:latin typeface="Chiller"/>
              </a:rPr>
              <a:t>DAD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604a7b"/>
                </a:solidFill>
                <a:latin typeface="Arial Narrow"/>
              </a:rPr>
              <a:t>SOCIA</a:t>
            </a:r>
            <a:r>
              <a:rPr b="1" lang="es-ES_tradnl" sz="2800" spc="-1" strike="noStrike">
                <a:solidFill>
                  <a:srgbClr val="604a7b"/>
                </a:solidFill>
                <a:latin typeface="comi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Marcador de contenido 3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997840" cy="4786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6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12" descr="http://www.campamento.lebal.es/wp-content/uploads/2011/06/Metodologia.jpg"/>
          <p:cNvPicPr/>
          <p:nvPr/>
        </p:nvPicPr>
        <p:blipFill>
          <a:blip r:embed="rId2"/>
          <a:stretch/>
        </p:blipFill>
        <p:spPr>
          <a:xfrm>
            <a:off x="324000" y="1989000"/>
            <a:ext cx="1666800" cy="905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http://200.116.126.171/cacvirtual/images/metodologias.png"/>
          <p:cNvPicPr/>
          <p:nvPr/>
        </p:nvPicPr>
        <p:blipFill>
          <a:blip r:embed="rId3"/>
          <a:stretch/>
        </p:blipFill>
        <p:spPr>
          <a:xfrm>
            <a:off x="36360" y="4840200"/>
            <a:ext cx="2341800" cy="1255680"/>
          </a:xfrm>
          <a:prstGeom prst="rect">
            <a:avLst/>
          </a:prstGeom>
          <a:ln w="0">
            <a:noFill/>
          </a:ln>
        </p:spPr>
      </p:pic>
      <p:pic>
        <p:nvPicPr>
          <p:cNvPr id="491" name="Imagen 4" descr=""/>
          <p:cNvPicPr/>
          <p:nvPr/>
        </p:nvPicPr>
        <p:blipFill>
          <a:blip r:embed="rId4"/>
          <a:stretch/>
        </p:blipFill>
        <p:spPr>
          <a:xfrm>
            <a:off x="623880" y="32655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92" name="Rectángulo 1"/>
          <p:cNvSpPr/>
          <p:nvPr/>
        </p:nvSpPr>
        <p:spPr>
          <a:xfrm>
            <a:off x="2771640" y="6021360"/>
            <a:ext cx="62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Calibri"/>
              </a:rPr>
              <a:t>http://es.slideshare.net/faropaideia/psicologa-social-autoconcepto-e-identi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28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Calibri"/>
              </a:rPr>
              <a:t>IDENTIDAD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1:48Z</dcterms:modified>
  <cp:revision>374</cp:revision>
  <dc:subject/>
  <dc:title>Diapositiva 1</dc:title>
</cp:coreProperties>
</file>